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_rels/presentation.xml.rels" ContentType="application/vnd.openxmlformats-package.relationships+xml"/>
  <Override PartName="/ppt/media/image12.jpeg" ContentType="image/jpeg"/>
  <Override PartName="/ppt/media/image7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sldIdLst>
    <p:sldId id="256" r:id="rId9"/>
    <p:sldId id="257" r:id="rId10"/>
    <p:sldId id="258" r:id="rId11"/>
    <p:sldId id="259" r:id="rId12"/>
    <p:sldId id="260" r:id="rId13"/>
    <p:sldId id="261" r:id="rId14"/>
    <p:sldId id="262" r:id="rId15"/>
    <p:sldId id="263" r:id="rId16"/>
    <p:sldId id="264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" Target="slides/slide1.xml"/><Relationship Id="rId10" Type="http://schemas.openxmlformats.org/officeDocument/2006/relationships/slide" Target="slides/slide2.xml"/><Relationship Id="rId11" Type="http://schemas.openxmlformats.org/officeDocument/2006/relationships/slide" Target="slides/slide3.xml"/><Relationship Id="rId12" Type="http://schemas.openxmlformats.org/officeDocument/2006/relationships/slide" Target="slides/slide4.xml"/><Relationship Id="rId13" Type="http://schemas.openxmlformats.org/officeDocument/2006/relationships/slide" Target="slides/slide5.xml"/><Relationship Id="rId14" Type="http://schemas.openxmlformats.org/officeDocument/2006/relationships/slide" Target="slides/slide6.xml"/><Relationship Id="rId15" Type="http://schemas.openxmlformats.org/officeDocument/2006/relationships/slide" Target="slides/slide7.xml"/><Relationship Id="rId16" Type="http://schemas.openxmlformats.org/officeDocument/2006/relationships/slide" Target="slides/slide8.xml"/><Relationship Id="rId17" Type="http://schemas.openxmlformats.org/officeDocument/2006/relationships/slide" Target="slides/slide9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82C53D-F552-48DD-9699-DC87DB1D401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C09A78-39C0-4410-AE38-8A95DF27A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7F1A9D-7580-4E08-BDCE-8047AA8E7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4A8F3-8F40-4B58-B5B9-DB954529E9E9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6579FB-BD05-41E5-A2A1-AF818DA24B34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462168-4A17-4ADB-9233-7D905A7834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6AA2D4-9AF9-4A5C-B1B6-27D6367226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547351-DF3F-4267-AA7F-A286B1508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B3D0EBC-E3F1-4686-9574-5C5F5D1BED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F235040-5776-4CFA-869D-1BCE9F5DA7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6A43C6A-0F08-4AB3-9D74-0B85E769D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88A13E-1559-43F9-A7CD-C7CA3EF3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16B61ED-E3A2-4415-8DEE-980E43467A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8817BCF-F789-4034-89A9-E586B2F0E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1645E11-B16B-4CEA-9457-1C70F2EC51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18621D-0B7D-42C2-BBAA-EA14CF96D1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15FBC5D-3CEA-417E-A2C5-47A5473A88C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8CD0DA-BDA9-4642-9348-B1C2EA6B940D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53A02-1596-4950-81C5-40B9556594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8226F4-741A-4C42-ACE9-2EAD36A6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39761-6FA0-40C6-BEBC-82DFA3B0E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49049-7B4E-4DEB-9C49-F720342E7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00D37-8FCD-4108-A039-5BFCA87092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5C83F8-0596-40BB-B522-C24865C516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EF650-4C03-4AD9-AB52-FBCA461A78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3BF75-6F58-4CC3-8042-CA5A9099EC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3893CB-DC6F-4700-ACC2-73C5BC229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3EC14-AD16-473F-9799-FE9FFE31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0F8E9-4723-4A09-88A5-266496390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9FA93A-CCA1-42A0-9FFB-05BC678B9B5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9F7A571-D5ED-4F67-9E4A-EEAFFDAF402A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7CED41-5C3B-42FC-944A-B6EA5A132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CDBA04-1FB4-4B67-A9D8-E8CF652F26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88FDE0-0C71-446A-BDA0-1F99545409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220619-932F-43AD-A296-EFDD8F3E91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F43BFE4-C307-4830-AE34-6257922DB0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BA1FC2-4F16-4BE9-977D-5AB8DB4024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6D043E8-610B-41C9-A48E-8E938BA1F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1D26932-F8A4-42D9-9411-8C99976EA6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976B25F-2B45-4FB3-91E5-B951E409EB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F537825-0330-4BA0-B837-489E3BC0F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FE01A41-1C24-4BCF-A963-96224C0AFE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2713688-9315-49F8-B185-9431F123092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77A3260-DF21-48E0-9E92-B2F86EB031D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86CFEB-0FBE-4416-85D5-329CDA358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BBF48D9-289E-4C42-A0FE-F53241278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27390BC-A5E3-436F-A639-A4550C15F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5DC7C4A-19C3-45C1-904F-64170475B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9449635-40D4-4AEF-A03E-C357B6503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0AACCE-44FC-4856-AC02-ED98988443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423170-C489-43E2-ADA9-1EAD7504E9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002A160-B1B2-4932-B798-D345BD176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78A27FF-4150-4C15-801D-F93186A6E4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55FCD77-5A48-4BC8-A030-F2CEDB16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7B7FF5-5878-426D-9338-ABBAF8727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421B6D-6B4B-4D96-B9A5-F9F4FA2DC0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66C0B44-6C94-4235-A749-EFF9EA9497B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FE86C6C-AF2E-4E5F-9769-452F853F4EF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901C64-6456-4976-84BE-ACD36A710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70A1C2-8878-43DF-B5C9-D2628961D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FAC831-B479-4D0C-8F6A-873DA122A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3D2839-40E6-4A4A-865B-3158E97E9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BD4FBFA-191E-4904-A87D-6F5B676FA9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4942D6-5FCA-4CF2-AF6E-F42EC159B0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7285EC-1778-481D-A403-0921AF038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1BA90-756F-4D9B-BD9B-094AF8120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D6397-1E1C-4680-A09F-23A6096F4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1C8280F-D73C-46F2-A3E0-F9232D6FF2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8D3113-C980-4937-B868-7283A93B1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C1CD07-4D6E-4B75-808B-07C80A8FA07E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CF7CF-BEBB-4693-9CA2-4B945279F9F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81113EE-6FD3-47D0-A9F0-CB0A88FB3A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CF254A-58F2-43BB-BB5F-481097347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E33733-3737-4E86-8277-89CC39D71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2BE47B-5B14-4C57-93E5-013AE5AF6D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680"/>
            <a:ext cx="749808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C65AFC23-1D3A-4459-BD93-CAC17B873D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6FC38CB-EF96-4B94-B480-1E14DC3B71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32EE14-770F-40DA-841D-EDBA888662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C4B320B-7A72-43F9-AD10-7C2936266C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511C68-30A5-4145-9F6A-4411A95A9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C566FCC-D78B-4462-9C41-2C7F64F82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240" y="395460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A130FF-2DD0-47C6-9C91-61361BC7F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08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5560" y="144792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08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5560" y="3954600"/>
            <a:ext cx="241416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A499CB7-407C-4310-859F-4E82CA50F95B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240" y="1447920"/>
            <a:ext cx="365904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600"/>
            <a:ext cx="7498080" cy="22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7EF82-84D4-4898-BE23-E7CBED760F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3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sldNum" idx="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DE164C6E-43C5-4EB5-808F-C30B017506B6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-816120" y="-816120"/>
            <a:ext cx="1638360" cy="1638360"/>
          </a:xfrm>
          <a:prstGeom prst="pie">
            <a:avLst/>
          </a:pr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"/>
          <p:cNvGrpSpPr/>
          <p:nvPr/>
        </p:nvGrpSpPr>
        <p:grpSpPr>
          <a:xfrm>
            <a:off x="165240" y="1036800"/>
            <a:ext cx="1168200" cy="1168200"/>
            <a:chOff x="165240" y="1036800"/>
            <a:chExt cx="1168200" cy="1168200"/>
          </a:xfrm>
        </p:grpSpPr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165240" y="1036800"/>
              <a:ext cx="1168200" cy="1168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40000">
              <a:off x="348840" y="1216080"/>
              <a:ext cx="79380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914400" y="1407960"/>
            <a:ext cx="230040" cy="223920"/>
            <a:chOff x="914400" y="1407960"/>
            <a:chExt cx="230040" cy="223920"/>
          </a:xfrm>
        </p:grpSpPr>
        <p:pic>
          <p:nvPicPr>
            <p:cNvPr id="56" name="" descr=""/>
            <p:cNvPicPr/>
            <p:nvPr/>
          </p:nvPicPr>
          <p:blipFill>
            <a:blip r:embed="rId4"/>
            <a:stretch/>
          </p:blipFill>
          <p:spPr>
            <a:xfrm>
              <a:off x="914400" y="1407960"/>
              <a:ext cx="23004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76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60" bIns="-36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FDB55A4F-19ED-49F7-A5E0-6EBCAD1884A3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2163600" y="2809800"/>
            <a:ext cx="230400" cy="223920"/>
            <a:chOff x="2163600" y="2809800"/>
            <a:chExt cx="230400" cy="223920"/>
          </a:xfrm>
        </p:grpSpPr>
        <p:pic>
          <p:nvPicPr>
            <p:cNvPr id="103" name="" descr=""/>
            <p:cNvPicPr/>
            <p:nvPr/>
          </p:nvPicPr>
          <p:blipFill>
            <a:blip r:embed="rId3"/>
            <a:stretch/>
          </p:blipFill>
          <p:spPr>
            <a:xfrm>
              <a:off x="2163600" y="2809800"/>
              <a:ext cx="230400" cy="223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5800" cy="147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440" bIns="-1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5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B8F638F0-2BFB-4FAF-A1C2-496CFADA5C31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 type="sldNum" idx="8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A1ACF9A4-BC0C-4B5B-B9DA-702E490B78E4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9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sldNum" idx="10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553C4941-2A17-4A13-BEAD-A08E812C3F0A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1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22252F4-FB0A-4773-9F9A-F27D0DCFD6CC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"/>
          <p:cNvGrpSpPr/>
          <p:nvPr/>
        </p:nvGrpSpPr>
        <p:grpSpPr>
          <a:xfrm>
            <a:off x="646200" y="969840"/>
            <a:ext cx="4802040" cy="4800600"/>
            <a:chOff x="646200" y="969840"/>
            <a:chExt cx="4802040" cy="4800600"/>
          </a:xfrm>
        </p:grpSpPr>
        <p:pic>
          <p:nvPicPr>
            <p:cNvPr id="273" name="" descr=""/>
            <p:cNvPicPr/>
            <p:nvPr/>
          </p:nvPicPr>
          <p:blipFill>
            <a:blip r:embed="rId3"/>
            <a:stretch/>
          </p:blipFill>
          <p:spPr>
            <a:xfrm>
              <a:off x="646200" y="969840"/>
              <a:ext cx="4802040" cy="4800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0200" cy="457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 rot="19440000">
            <a:off x="39852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 flipH="1" rot="2100000">
            <a:off x="5003640" y="936720"/>
            <a:ext cx="64944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680"/>
            <a:ext cx="749808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Corbel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Corbe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920"/>
            <a:ext cx="7498080" cy="479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rbe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orbe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228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 type="sldNum" idx="14"/>
          </p:nvPr>
        </p:nvSpPr>
        <p:spPr>
          <a:xfrm>
            <a:off x="8613720" y="6305040"/>
            <a:ext cx="455760" cy="47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200" spc="-1" strike="noStrike">
                <a:solidFill>
                  <a:srgbClr val="b5a788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99A26C4F-9548-4910-92CB-6F4EB50CCCF2}" type="slidenum">
              <a:rPr b="0" lang="ru-RU" sz="1200" spc="-1" strike="noStrike">
                <a:solidFill>
                  <a:srgbClr val="b5a788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685800" y="857160"/>
            <a:ext cx="777240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Из опыта работы</a:t>
            </a:r>
            <a:br>
              <a:rPr sz="4300"/>
            </a:br>
            <a:r>
              <a:rPr b="1" lang="ru-RU" sz="4300" spc="-1" strike="noStrike">
                <a:solidFill>
                  <a:srgbClr val="0070c0"/>
                </a:solidFill>
                <a:latin typeface="Corbel"/>
                <a:ea typeface="Microsoft YaHei"/>
              </a:rPr>
              <a:t> «Неделя финансовой грамотности в 5-11 классах»</a:t>
            </a:r>
            <a:br>
              <a:rPr sz="4300"/>
            </a:br>
            <a:endParaRPr b="0" lang="en-US" sz="4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1371600" y="3886200"/>
            <a:ext cx="727236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46800" anchor="t">
            <a:noAutofit/>
          </a:bodyPr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азанцева Лена Фаатовн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Учитель истории и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обществознания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МБОУ «Большеусинская СОШ»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7000" algn="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Куединский МО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714240" y="3000240"/>
            <a:ext cx="357192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457200" y="285840"/>
            <a:ext cx="8229600" cy="58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Неделя финансовой грамотности в школе проводится второй год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Содействие повышению уровня информированности детей и молодежи по вопросам личных финансов , способствовать повышению навыков грамотного решения финансовых вопро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Главной мотивацией участия  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тей в мероприятиях Недели   становятся </a:t>
            </a:r>
            <a:r>
              <a:rPr b="1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деньги,</a:t>
            </a:r>
            <a:r>
              <a:rPr b="0" lang="ru-RU" sz="3000" spc="-1" strike="noStrike">
                <a:solidFill>
                  <a:srgbClr val="002060"/>
                </a:solidFill>
                <a:latin typeface="Corbel"/>
                <a:ea typeface="Microsoft YaHei"/>
              </a:rPr>
              <a:t> изданные организатором Недели. Все заработанные в течение недели деньги, можно было потратить на аукционе, предложив свою большую цену за товар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лан недели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конкурс методических разработок Казанцева Л.Ф.МБОУ Большеусинская СОШ\Разработка Казанцевой Л.Ф..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5" name="" descr=""/>
          <p:cNvPicPr/>
          <p:nvPr/>
        </p:nvPicPr>
        <p:blipFill>
          <a:blip r:embed="rId2"/>
          <a:stretch/>
        </p:blipFill>
        <p:spPr>
          <a:xfrm>
            <a:off x="1214280" y="3286080"/>
            <a:ext cx="4214880" cy="3171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0070c0"/>
                </a:solidFill>
                <a:latin typeface="Corbel"/>
                <a:ea typeface="Microsoft YaHei"/>
              </a:rPr>
              <a:t>Деловая игра «Юный бизнесмен»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Цель:</a:t>
            </a: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 Развитие финансовой грамотности обучающихс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Суть игры: детям 5-11 классов предлагается продать за деньги, или обменять  изделия, выполненные своими руками: мыло, кольца и браслеты из бисера, изделия из бумаги, вышитые , связанные изделия и т.д. Наибольшей популярностью стали изделия из песочного теста, блины, пироги с яблоками и т.д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 актовом зале были поставлены столы, на которых расположились юные предприниматели. Цены были оговорены заранее, реклама изделий выполнена учащимися и помещена на этажах школ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200" spc="-1" strike="noStrike">
                <a:solidFill>
                  <a:srgbClr val="002060"/>
                </a:solidFill>
                <a:latin typeface="Corbel"/>
                <a:ea typeface="Microsoft YaHei"/>
              </a:rPr>
              <a:t>Во время больших перемен ребята продавали свои изделия  школьникам, работникам школы. Наибольшую прибыль получила девочка 6 класса, изготавливающая мыло ручной работ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9" name="" descr=""/>
          <p:cNvPicPr/>
          <p:nvPr/>
        </p:nvPicPr>
        <p:blipFill>
          <a:blip r:embed="rId2"/>
          <a:stretch/>
        </p:blipFill>
        <p:spPr>
          <a:xfrm>
            <a:off x="428760" y="192240"/>
            <a:ext cx="2643120" cy="3512880"/>
          </a:xfrm>
          <a:prstGeom prst="rect">
            <a:avLst/>
          </a:prstGeom>
          <a:ln w="0">
            <a:noFill/>
          </a:ln>
        </p:spPr>
      </p:pic>
      <p:pic>
        <p:nvPicPr>
          <p:cNvPr id="330" name="" descr=""/>
          <p:cNvPicPr/>
          <p:nvPr/>
        </p:nvPicPr>
        <p:blipFill>
          <a:blip r:embed="rId3"/>
          <a:stretch/>
        </p:blipFill>
        <p:spPr>
          <a:xfrm>
            <a:off x="5929200" y="312840"/>
            <a:ext cx="2857680" cy="3797280"/>
          </a:xfrm>
          <a:prstGeom prst="rect">
            <a:avLst/>
          </a:prstGeom>
          <a:ln w="0">
            <a:noFill/>
          </a:ln>
        </p:spPr>
      </p:pic>
      <p:pic>
        <p:nvPicPr>
          <p:cNvPr id="331" name="" descr=""/>
          <p:cNvPicPr/>
          <p:nvPr/>
        </p:nvPicPr>
        <p:blipFill>
          <a:blip r:embed="rId4"/>
          <a:stretch/>
        </p:blipFill>
        <p:spPr>
          <a:xfrm>
            <a:off x="2500200" y="1476360"/>
            <a:ext cx="378648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Мозгобатл «Деньги вчера , сегодня, завтра»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Интеллектуальная игра для учащихся 7-11 классов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1 Игра «Что?Где?Когда?», 2 игра «Отгадай рекламу», 3 игра – отгадай имя певца или название группы «Кто поет о деньгах», 4 игра «Отгадай кадр из фильма , где находятся деньги»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5040" indent="-2808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Corbel"/>
                <a:ea typeface="Microsoft YaHei"/>
              </a:rPr>
              <a:t>Победители и призеры, а также участники в качестве призов  получают деньги, выпущенные организатором недел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"/>
          <p:cNvSpPr/>
          <p:nvPr/>
        </p:nvSpPr>
        <p:spPr>
          <a:xfrm>
            <a:off x="1434960" y="142920"/>
            <a:ext cx="7499520" cy="14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1285920" y="23760"/>
            <a:ext cx="3000240" cy="400068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4071960" y="642960"/>
            <a:ext cx="4214880" cy="5619600"/>
          </a:xfrm>
          <a:prstGeom prst="rect">
            <a:avLst/>
          </a:prstGeom>
          <a:ln w="0">
            <a:noFill/>
          </a:ln>
        </p:spPr>
      </p:pic>
      <p:pic>
        <p:nvPicPr>
          <p:cNvPr id="337" name="" descr=""/>
          <p:cNvPicPr/>
          <p:nvPr/>
        </p:nvPicPr>
        <p:blipFill>
          <a:blip r:embed="rId4"/>
          <a:stretch/>
        </p:blipFill>
        <p:spPr>
          <a:xfrm>
            <a:off x="1857240" y="3738600"/>
            <a:ext cx="2340000" cy="31194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Школьный тур олимпиады по финансовой грамотности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434960" y="1447920"/>
            <a:ext cx="749952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на Функциональную грамотнрсть\фг 7-9 класс.pdfна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63600" indent="-282600">
              <a:lnSpc>
                <a:spcPct val="10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orbel"/>
                <a:ea typeface="Microsoft YaHei"/>
              </a:rPr>
              <a:t>Функциональную грамотность\задания по ЧГ 5-6 классы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"/>
          <p:cNvSpPr/>
          <p:nvPr/>
        </p:nvSpPr>
        <p:spPr>
          <a:xfrm>
            <a:off x="1434960" y="274680"/>
            <a:ext cx="7499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3900" spc="-1" strike="noStrike">
                <a:solidFill>
                  <a:srgbClr val="572314"/>
                </a:solidFill>
                <a:latin typeface="Corbel"/>
                <a:ea typeface="Microsoft YaHei"/>
              </a:rPr>
              <a:t>Подведение итогов Недели. Аукцион.</a:t>
            </a:r>
            <a:br>
              <a:rPr sz="3900"/>
            </a:b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1" name="" descr=""/>
          <p:cNvPicPr/>
          <p:nvPr/>
        </p:nvPicPr>
        <p:blipFill>
          <a:blip r:embed="rId2"/>
          <a:stretch/>
        </p:blipFill>
        <p:spPr>
          <a:xfrm>
            <a:off x="4000680" y="642960"/>
            <a:ext cx="3357360" cy="4476600"/>
          </a:xfrm>
          <a:prstGeom prst="rect">
            <a:avLst/>
          </a:prstGeom>
          <a:ln w="0">
            <a:noFill/>
          </a:ln>
        </p:spPr>
      </p:pic>
      <p:pic>
        <p:nvPicPr>
          <p:cNvPr id="342" name="" descr=""/>
          <p:cNvPicPr/>
          <p:nvPr/>
        </p:nvPicPr>
        <p:blipFill>
          <a:blip r:embed="rId3"/>
          <a:stretch/>
        </p:blipFill>
        <p:spPr>
          <a:xfrm>
            <a:off x="1071720" y="1173240"/>
            <a:ext cx="2928960" cy="3905280"/>
          </a:xfrm>
          <a:prstGeom prst="rect">
            <a:avLst/>
          </a:prstGeom>
          <a:ln w="0">
            <a:noFill/>
          </a:ln>
        </p:spPr>
      </p:pic>
      <p:pic>
        <p:nvPicPr>
          <p:cNvPr id="343" name="" descr=""/>
          <p:cNvPicPr/>
          <p:nvPr/>
        </p:nvPicPr>
        <p:blipFill>
          <a:blip r:embed="rId4"/>
          <a:stretch/>
        </p:blipFill>
        <p:spPr>
          <a:xfrm>
            <a:off x="6143760" y="3429000"/>
            <a:ext cx="2463840" cy="328608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52:50Z</dcterms:created>
  <dc:creator>Acer-Kab-10</dc:creator>
  <dc:description/>
  <dc:language>en-US</dc:language>
  <cp:lastModifiedBy>Пользователь Windows</cp:lastModifiedBy>
  <dcterms:modified xsi:type="dcterms:W3CDTF">2022-11-24T16:56:17Z</dcterms:modified>
  <cp:revision>8</cp:revision>
  <dc:subject/>
  <dc:title>Из опыта работы  «Неделя финансовой грамотности в 5-11 классах»</dc:title>
</cp:coreProperties>
</file>